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3C6-EFDF-4148-BF55-CCF65EAB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661E-3C85-4E38-856F-3E93C802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210-FD0D-4943-BAC5-B743B99E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C32-239B-415B-BD5B-3A994C59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FB0F7-4B00-48DB-9B7F-9081D9EE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F2058-C1D7-4DCF-8EE5-3C6DAA0E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C3827-0972-4CE5-810D-1A9D4BDD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24298-6982-4712-AF21-1EEFCE9E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7BAD9-5093-42E6-9DB4-CE45AD32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02791-7099-4768-88D0-30DD493F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86633-95AA-4E1E-A04E-540B02A4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230-D0FE-4608-8AF7-ED0AE679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AC86B-2AE2-4A2F-9629-4FBF1F0E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504A1-D028-4E66-AAA1-7134AD36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733EB-7505-42A6-93E4-9CD53ED9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73CC3-E021-4807-9DC4-1D387C77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A78EE-021F-405C-97F6-9C3D3F98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3F9-0C35-4B34-9FEC-A1B68CDC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BAD7-42A1-490F-9C57-177FA8A9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B34-73F3-4CA6-BD6C-9FDD77A0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B25-9FDB-4046-8AC1-639DAEB2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36A-75DB-429C-AD66-717EFACB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3FE-56FE-4147-9222-2D59E3DD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952-26B1-44E1-80E0-CBE57684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BA84-DAF6-43DE-86D2-2D11518363C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2320-3C27-4A22-AF23-782D6F639405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8075520" cy="545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Monotype Corsiva"/>
              </a:rPr>
              <a:t>Projeto de Ensino desenvolvido na E.E. Senador Filinto Muller-Extensão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277920"/>
            <a:ext cx="8497800" cy="624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Título do projeto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: Terra, Planeta Água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Professora coordenadora: 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Cinthya Maria Staut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Colaboração: 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Professor STE Claudemir e NTE Professora Carla Varela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Execução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: Professora Maria José, Izabel e Rose Mazzaro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Componentes curriculares: 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Ciências Naturais / Meio Ambiente; Matemática; Língua Portuguesa e Artes.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Publico Alvo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: 6º Ano D do Ensino Fundamental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Turno: 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Vespertino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Período de realização: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 Setembro/ Novembro de 2009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Alunos confeccionando filtro para fazerem a experiê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CIMG1565"/>
          <p:cNvPicPr/>
          <p:nvPr/>
        </p:nvPicPr>
        <p:blipFill>
          <a:blip r:embed="rId1"/>
          <a:stretch/>
        </p:blipFill>
        <p:spPr>
          <a:xfrm>
            <a:off x="1441440" y="1973160"/>
            <a:ext cx="2916360" cy="1989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87" name="Picture 9" descr="CIMG1566"/>
          <p:cNvPicPr/>
          <p:nvPr/>
        </p:nvPicPr>
        <p:blipFill>
          <a:blip r:embed="rId2"/>
          <a:stretch/>
        </p:blipFill>
        <p:spPr>
          <a:xfrm>
            <a:off x="4430880" y="1973160"/>
            <a:ext cx="2911320" cy="1989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88" name="Picture 10" descr="CIMG1574"/>
          <p:cNvPicPr/>
          <p:nvPr/>
        </p:nvPicPr>
        <p:blipFill>
          <a:blip r:embed="rId3"/>
          <a:stretch/>
        </p:blipFill>
        <p:spPr>
          <a:xfrm>
            <a:off x="1440000" y="4025880"/>
            <a:ext cx="2917800" cy="1989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9" name="Text Box 12"/>
          <p:cNvSpPr/>
          <p:nvPr/>
        </p:nvSpPr>
        <p:spPr>
          <a:xfrm>
            <a:off x="6784920" y="1360440"/>
            <a:ext cx="21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14" descr="CIMG1581"/>
          <p:cNvPicPr/>
          <p:nvPr/>
        </p:nvPicPr>
        <p:blipFill>
          <a:blip r:embed="rId4"/>
          <a:stretch/>
        </p:blipFill>
        <p:spPr>
          <a:xfrm>
            <a:off x="4427640" y="4005360"/>
            <a:ext cx="2952720" cy="2016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Os alunos estão realizando a experiência, 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filtrando a águ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0" descr="CIMG1585"/>
          <p:cNvPicPr/>
          <p:nvPr/>
        </p:nvPicPr>
        <p:blipFill>
          <a:blip r:embed="rId1"/>
          <a:stretch/>
        </p:blipFill>
        <p:spPr>
          <a:xfrm>
            <a:off x="4284720" y="1484280"/>
            <a:ext cx="3600360" cy="2233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3" name="Picture 20" descr="CIMG1583"/>
          <p:cNvPicPr/>
          <p:nvPr/>
        </p:nvPicPr>
        <p:blipFill>
          <a:blip r:embed="rId2"/>
          <a:stretch/>
        </p:blipFill>
        <p:spPr>
          <a:xfrm>
            <a:off x="826920" y="3789360"/>
            <a:ext cx="3457800" cy="244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4" name="Picture 21" descr="CIMG1579"/>
          <p:cNvPicPr/>
          <p:nvPr/>
        </p:nvPicPr>
        <p:blipFill>
          <a:blip r:embed="rId3"/>
          <a:stretch/>
        </p:blipFill>
        <p:spPr>
          <a:xfrm>
            <a:off x="826920" y="1484280"/>
            <a:ext cx="3384720" cy="2233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5" name="Picture 22" descr="CIMG1584"/>
          <p:cNvPicPr/>
          <p:nvPr/>
        </p:nvPicPr>
        <p:blipFill>
          <a:blip r:embed="rId4"/>
          <a:stretch/>
        </p:blipFill>
        <p:spPr>
          <a:xfrm>
            <a:off x="4284720" y="3789360"/>
            <a:ext cx="3600360" cy="244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Alunos na STE fazendo pesquisa relacionada ao desenvolvimento do projet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9" descr="CIMG1589"/>
          <p:cNvPicPr/>
          <p:nvPr/>
        </p:nvPicPr>
        <p:blipFill>
          <a:blip r:embed="rId1"/>
          <a:stretch/>
        </p:blipFill>
        <p:spPr>
          <a:xfrm>
            <a:off x="1258920" y="1557360"/>
            <a:ext cx="2914560" cy="2232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8" name="Picture 10" descr="CIMG1602"/>
          <p:cNvPicPr/>
          <p:nvPr/>
        </p:nvPicPr>
        <p:blipFill>
          <a:blip r:embed="rId2"/>
          <a:stretch/>
        </p:blipFill>
        <p:spPr>
          <a:xfrm>
            <a:off x="4211640" y="1557360"/>
            <a:ext cx="3024360" cy="2232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9" name="Picture 11" descr="CIMG1600"/>
          <p:cNvPicPr/>
          <p:nvPr/>
        </p:nvPicPr>
        <p:blipFill>
          <a:blip r:embed="rId3"/>
          <a:stretch/>
        </p:blipFill>
        <p:spPr>
          <a:xfrm>
            <a:off x="1258920" y="3962520"/>
            <a:ext cx="2914560" cy="1984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0" name="Picture 12" descr="CIMG1591"/>
          <p:cNvPicPr/>
          <p:nvPr/>
        </p:nvPicPr>
        <p:blipFill>
          <a:blip r:embed="rId4"/>
          <a:stretch/>
        </p:blipFill>
        <p:spPr>
          <a:xfrm>
            <a:off x="4213080" y="3962520"/>
            <a:ext cx="3022920" cy="1963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1" name="Text Box 13"/>
          <p:cNvSpPr/>
          <p:nvPr/>
        </p:nvSpPr>
        <p:spPr>
          <a:xfrm>
            <a:off x="6516720" y="155736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10920" y="1700280"/>
            <a:ext cx="78692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A realização do projeto alcançou os objetivos propostos, bem como a participação dos alunos durante o desenvolvimento das atividades, evidenciando a importância de se trabalhar de forma interdisciplina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7:26:51Z</dcterms:created>
  <dc:creator>Microsoft</dc:creator>
  <dc:description/>
  <dc:language>en-US</dc:language>
  <cp:lastModifiedBy>Claudemir</cp:lastModifiedBy>
  <dcterms:modified xsi:type="dcterms:W3CDTF">2013-02-27T18:45:56Z</dcterms:modified>
  <cp:revision>9</cp:revision>
  <dc:subject/>
  <dc:title>Projeto de Ensino desenvolvido na E.E.Senador Filinto Muller-Extensão</dc:title>
</cp:coreProperties>
</file>